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13.jpeg" ContentType="image/jpeg"/>
  <Override PartName="/ppt/media/image14.jpeg" ContentType="image/jpeg"/>
  <Override PartName="/ppt/media/image5.gif" ContentType="image/gif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D1E-A16B-49D9-A6BC-0D9DAA6C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D22-E456-41CF-9850-94CAB4E2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F76-6D4D-4BFF-A741-B638134B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49C-C2F0-4CB8-89C9-35730B88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C8BE-983F-421B-8174-86D34436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E01A-B8FF-4A0C-8CCB-9DEC1A44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F553-6185-45B6-83DC-E7B980F5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68FD-E4CA-4A0A-AA3A-36943219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2EA6-C979-4542-B497-B5ED6CD1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4AC9-319A-4AE4-B163-C320DFC9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F473-0975-4487-A69B-6CCE379A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173-F401-49DF-847D-890E9874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D797-B036-47A2-AA02-1BF99AD9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AC63-25AA-404C-8DC3-4E090123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72D2-8939-422F-9E89-D18FF252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87E4-D6EA-4E71-8313-F14CDDC1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2462-BAD1-4923-8131-923401BE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C05-A8F4-4ACD-8943-9D690B5E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BD9-7A21-4501-AEB6-7D92EF8F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663-2B72-430F-88B7-0951B158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045-3315-4941-9B90-4C59ECCC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0A6-2C7E-4EC6-A902-A1C8432E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FEB-3ABA-46B7-86CC-5E9F616B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4ED-B261-4D64-BBF0-866E5A34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B399-03A5-48BF-8D56-2ADC8FDDC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3281-CE50-4895-B1A0-430BFB9E2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qcc.cuny.edu/biologicalsciences/Faculty/DMeyer/respiration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www.nutristrategy.com/activitylist4.ht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6560"/>
            <a:ext cx="76788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(Biology) Chapter 9: Cellular Respi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657240" y="2860200"/>
            <a:ext cx="4800600" cy="11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ells Make ATP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ergy-Releasing Path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5" descr="http://ebiomedia.com/prod/images/PHOTRESP.JPG"/>
          <p:cNvPicPr/>
          <p:nvPr/>
        </p:nvPicPr>
        <p:blipFill>
          <a:blip r:embed="rId1"/>
          <a:stretch/>
        </p:blipFill>
        <p:spPr>
          <a:xfrm>
            <a:off x="4495680" y="4191120"/>
            <a:ext cx="2880000" cy="216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Glycolysis is divided into two major phases: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413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Verdana"/>
              </a:rPr>
              <a:t>Endergonic Re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require initial investment of energy (ATP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2 ATP Invest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Verdana"/>
              </a:rPr>
              <a:t>Exergonic Re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Second set of reactions; yield ATP and NAD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4 ATP Produc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 Total: 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2 ATP (4 – 2 AT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2 NAD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2 H2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a0000"/>
                </a:solidFill>
                <a:latin typeface="Verdana"/>
              </a:rPr>
              <a:t>At the end of glycolysis, 90% of the chemical energy in glucose is still un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#2 Pyruvate Is Converted to Acetyl-CoA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yruvate molecules formed in glycolysis enter the mitochondria, where they are converted to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acetyl coenzyme 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cetyl Co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 Total: (2 cycles yiel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2 Acetyl Co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2 NAD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2 CO</a:t>
            </a:r>
            <a:r>
              <a:rPr b="0" lang="en-US" sz="2000" spc="-1" strike="noStrike" baseline="-25000">
                <a:solidFill>
                  <a:srgbClr val="9a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0 A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://www.sirinet.net/~jgjohnso/modacetylcoa.jpg"/>
          <p:cNvPicPr/>
          <p:nvPr/>
        </p:nvPicPr>
        <p:blipFill>
          <a:blip r:embed="rId1"/>
          <a:stretch/>
        </p:blipFill>
        <p:spPr>
          <a:xfrm>
            <a:off x="2133720" y="304920"/>
            <a:ext cx="4809960" cy="601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6264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#3 Krebs (Citric Acid) Cycl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ised of eight steps, each catalyzed by a specific enzy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qcc.cuny.edu/biologicalsciences/Faculty/DMeyer/respiration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434880"/>
            <a:ext cx="81630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Because two acetyl CoA molecules are produced from each glucose molecule, two cycles are required per glucose molecule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9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tric Acid Cycle Yields: (per gluco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 NAD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FAD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 the end of the citric acid cycle, glucose has been completely broken dow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y 4 ATP molecules have been formed by substrate-level phosphorylation: 2 during glycolysis and 2 during citric acid cyc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 this time, most of the energy of the glucose is in the form of high-energy electrons in NADH and FADH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ir energy will be used to synthesize additional ATP through the electron transport chain and chemiosmosi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http://www.techedlab.com/temp/kreb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1" name="Straight Arrow Connector 9"/>
          <p:cNvCxnSpPr/>
          <p:nvPr/>
        </p:nvCxnSpPr>
        <p:spPr>
          <a:xfrm flipV="1">
            <a:off x="6476760" y="2971080"/>
            <a:ext cx="10674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2" name="Picture 2" descr="http://library.thinkquest.org/C004535/media/kreb_cycle.gif"/>
          <p:cNvPicPr/>
          <p:nvPr/>
        </p:nvPicPr>
        <p:blipFill>
          <a:blip r:embed="rId1"/>
          <a:stretch/>
        </p:blipFill>
        <p:spPr>
          <a:xfrm>
            <a:off x="1143000" y="228600"/>
            <a:ext cx="7162920" cy="614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The Electron Transport Chain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DH and FADH2 transport high-energy electrons from one acceptor to anot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the electrons are passed along in a series of exergonic redox reactions, some of their energy is used to drive the synthesis of A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DH = 3 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D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2 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ydrogen (protons) and electrons pass through the enzyme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ATP synt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http://spot.pcc.edu/~jvolpe/b/bi234/lec/3_metabolism/images/fig5-21_ETC.JPG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83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Energy Yields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lycolys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2 AT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substrate-level phosphoryl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NAD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TC = </a:t>
            </a: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4-6 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Pyruvat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yruvate to Acetyl Co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0 AT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substrate-level phosphoryl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NAD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TC = </a:t>
            </a: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6 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Acetyl Co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itric Acid Cyc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2 AT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substrate-level phosphoryl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 NAD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TC = </a:t>
            </a: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18 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FAD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TC = </a:t>
            </a: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4 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 CO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H2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ectron Transport Ch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32-34 AT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hemiosmosis)             </a:t>
            </a:r>
            <a:r>
              <a:rPr b="0" lang="en-US" sz="1800" spc="-1" strike="noStrike">
                <a:solidFill>
                  <a:srgbClr val="9a0000"/>
                </a:solidFill>
                <a:latin typeface="Verdana"/>
              </a:rPr>
              <a:t>Total = </a:t>
            </a: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36-38 AT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1044360"/>
            <a:ext cx="81630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How Do Cells Make ATP?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Metabolis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total of all the chemical re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TP is the primary energy carrier for al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ells, both autotrophic and heterotrophic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http://biology.clc.uc.edu/graphics/bio104/atp%20small.jpg"/>
          <p:cNvPicPr/>
          <p:nvPr/>
        </p:nvPicPr>
        <p:blipFill>
          <a:blip r:embed="rId1"/>
          <a:stretch/>
        </p:blipFill>
        <p:spPr>
          <a:xfrm>
            <a:off x="6095880" y="449568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http://www.sirinet.net/~jgjohnso/modenergyyeild.jpg"/>
          <p:cNvPicPr/>
          <p:nvPr/>
        </p:nvPicPr>
        <p:blipFill>
          <a:blip r:embed="rId1"/>
          <a:stretch/>
        </p:blipFill>
        <p:spPr>
          <a:xfrm>
            <a:off x="2057400" y="304920"/>
            <a:ext cx="5195880" cy="655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http://www.sirinet.net/~jgjohnso/modcellularrespir.jpg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608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1044360"/>
            <a:ext cx="81630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Anaerobic Respiratio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erobic pathways operate when oxygen is absent (or limited); Pyruvate from glycolysis is metabolized to produce molecules other than acetyl Co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ycolysis still occ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is a net yield of only two ATPs and NAD+ is regene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Fermentation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- subset of Anaerobic Respiratio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rmentation is an anaerobic process that Does Not use an electron transport ch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 the end of glycolysis, Pyruvate is converted into molecules other than acetyl Co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Lactate Ferm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yruvate molecules are converted 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act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rtain bacteria can sour milk and make it undrinkable but other bacteria have been used commercially to produce cheese, yogurt, and sauerkrau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muscle cells are very active, they convert to producing lactate temporarily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Alcoholic Ferm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llular enzymes convert Pyruvate to acetaldehyde, which then accepts electrons from NADH to become alcohol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thano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easts are valuable in the baking industry (carbon dioxide by-product makes dough rise) and in alcoholic beverage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http://www.sirinet.net/~jgjohnso/modlacticacidferm.jpg"/>
          <p:cNvPicPr/>
          <p:nvPr/>
        </p:nvPicPr>
        <p:blipFill>
          <a:blip r:embed="rId1"/>
          <a:stretch/>
        </p:blipFill>
        <p:spPr>
          <a:xfrm>
            <a:off x="609480" y="609480"/>
            <a:ext cx="4994280" cy="2525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http://www.sirinet.net/~jgjohnso/modalcoholicferm.jpg"/>
          <p:cNvPicPr/>
          <p:nvPr/>
        </p:nvPicPr>
        <p:blipFill>
          <a:blip r:embed="rId2"/>
          <a:stretch/>
        </p:blipFill>
        <p:spPr>
          <a:xfrm>
            <a:off x="3809880" y="3886200"/>
            <a:ext cx="4732560" cy="263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ttp://betatestlabs.org/wp-content/uploads/2010/06/cramp.jpg"/>
          <p:cNvPicPr/>
          <p:nvPr/>
        </p:nvPicPr>
        <p:blipFill>
          <a:blip r:embed="rId1"/>
          <a:stretch/>
        </p:blipFill>
        <p:spPr>
          <a:xfrm>
            <a:off x="3578400" y="1749600"/>
            <a:ext cx="4505040" cy="48402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977400"/>
            <a:ext cx="816300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Lactic acid is not the Enemy?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69480"/>
            <a:ext cx="81630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How much energy is actually in your food?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gram of glucose releases 3811 calories of heat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orie (food labels) = 1 kilocalorie = 1000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o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a0000"/>
                </a:solidFill>
                <a:uFillTx/>
                <a:latin typeface="Verdana"/>
              </a:rPr>
              <a:t>calori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the amount of energy needed to raise the temperature of 1 gram of water, 1 Celsius degr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 grams (tablespoon) of glucose = 40 kcal (40,000 c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0 Calori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ough energy to exercise for 15 minu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1029" descr="http://www.all-creatures.org/anan/carrot.gif"/>
          <p:cNvPicPr/>
          <p:nvPr/>
        </p:nvPicPr>
        <p:blipFill>
          <a:blip r:embed="rId1"/>
          <a:stretch/>
        </p:blipFill>
        <p:spPr>
          <a:xfrm>
            <a:off x="7238880" y="4800600"/>
            <a:ext cx="1549440" cy="19051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030"/>
          <p:cNvSpPr/>
          <p:nvPr/>
        </p:nvSpPr>
        <p:spPr>
          <a:xfrm>
            <a:off x="2443320" y="5638680"/>
            <a:ext cx="288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number of calo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recharging your batteries"/>
          <p:cNvPicPr/>
          <p:nvPr/>
        </p:nvPicPr>
        <p:blipFill>
          <a:blip r:embed="rId1"/>
          <a:stretch/>
        </p:blipFill>
        <p:spPr>
          <a:xfrm>
            <a:off x="1981080" y="152280"/>
            <a:ext cx="5064120" cy="6400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http://virtualastronaut.jsc.nasa.gov/textonly/act15/images/skeltw2.gif"/>
          <p:cNvPicPr/>
          <p:nvPr/>
        </p:nvPicPr>
        <p:blipFill>
          <a:blip r:embed="rId2"/>
          <a:stretch/>
        </p:blipFill>
        <p:spPr>
          <a:xfrm>
            <a:off x="6588000" y="3352680"/>
            <a:ext cx="2300400" cy="304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ellular Respiration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ellular process of converting glucose to ATP energy in the presence or absence of oxyg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s place in the Cytoplasm and Mitochond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Aerobic Respiration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quires oxygen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(36-38 AT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Anaerobic Respir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fermentation)- does not require oxygen (less energy yield)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(2 AT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434520"/>
            <a:ext cx="81630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Overall Reaction Pathway for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Aerobic Respiration: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9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+  6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+ 6H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6C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+ 12H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+ Energ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  <a:ea typeface="Times New Roman"/>
              </a:rPr>
              <a:t>During this process, energy in the form of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  <a:ea typeface="Times New Roman"/>
              </a:rPr>
              <a:t>electrons is used to generate AT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erobic respiration occur in four stag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Formation of Acetyl Coenzyme A (acetyl-CoA) from Pyruv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Krebs Cycle (Citric Acid Cyc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Electron Transport Chain and Chemiosmos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http://www.sirinet.net/~jgjohnso/mitochondria.jpg"/>
          <p:cNvPicPr/>
          <p:nvPr/>
        </p:nvPicPr>
        <p:blipFill>
          <a:blip r:embed="rId1"/>
          <a:stretch/>
        </p:blipFill>
        <p:spPr>
          <a:xfrm>
            <a:off x="914400" y="1676520"/>
            <a:ext cx="7319880" cy="374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#1 Glycoly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x-carbon glucose molecule is converted to two, three-carbon molecules of (2)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Pyruva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nd (2)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(2)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NAD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form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s in the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Cytoso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ll other stages occur in the mitochond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es n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quire oxygen and can proceed under aerobic and anaerobic cond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reaction is catalyzed by a specific enzy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http://vs.eun.org/shared/img/virtualschool/chemistry/p-210-glycolysis.jpg"/>
          <p:cNvPicPr/>
          <p:nvPr/>
        </p:nvPicPr>
        <p:blipFill>
          <a:blip r:embed="rId1"/>
          <a:stretch/>
        </p:blipFill>
        <p:spPr>
          <a:xfrm>
            <a:off x="838080" y="228600"/>
            <a:ext cx="3521160" cy="6400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oxygen is pres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erobic respi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oxygen is not pres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aerobic respiration (ferment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59:31Z</dcterms:created>
  <dc:creator>CASSANO</dc:creator>
  <dc:description/>
  <dc:language>en-US</dc:language>
  <cp:lastModifiedBy>cassano</cp:lastModifiedBy>
  <dcterms:modified xsi:type="dcterms:W3CDTF">2014-03-04T18:46:33Z</dcterms:modified>
  <cp:revision>20</cp:revision>
  <dc:subject/>
  <dc:title>Chapter 7: Cellular Respiration</dc:title>
</cp:coreProperties>
</file>